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D11-319E-4676-9E73-C63CE08B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0F2-F912-4DED-8D35-C7BA1094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A9A-3DCE-4FCB-8461-2C0AF2BE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9D7-4281-4E6A-AFEA-7590DA57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190A-65B0-4436-A288-C68CA7D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C38-A2F8-4229-966A-A2B949C4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4C91-AA23-49F1-A1AB-6C931085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2270-C426-4429-9DD9-D308FE8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D0B2-1CBF-4C7F-9498-6E18E3E5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EDE-D825-46C9-9C55-517FA145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8AA-0A4A-4A5D-8F2D-31008F4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0D4-0844-4F2D-BD62-1E702148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74EE-72AD-4074-BFE2-34395212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A03B-D551-49B2-A451-307E9C8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629A-9EF0-4512-A933-F00B8CDE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76C2-3725-434F-A8FA-9257977E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EB0-A25E-4BDF-ADBC-101AB22A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A81-5BF1-40D1-88BA-13E41E9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9DC-835A-4B91-B798-86DF2B23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E9C-21E8-4716-8AA8-60A4B371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32F-8DBB-4CE0-A25E-9A946151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48D-8A60-4F71-9F05-48A5DF6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F9E-7E08-4D92-816A-5B53CA8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A8F-A918-4C5C-A68F-0D64DF7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BC09-7C2F-487A-8F80-5FA59A440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28B-D734-4810-A2C3-90BA3CBEF0F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.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lish-Freshm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ocabulary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ady or The Tig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illy Sunday use to preach, Alcohol is an appalling source of misery and crime in the land. His efforts helped bring about legel prohibition in the 20’s and early 30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sque:worship::________:exerci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ing:Bell::honk:________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assign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e 2 paragraphs about a tough decision you had to mak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 prepared to share </a:t>
            </a:r>
            <a:r>
              <a:rPr b="0" lang="en-US" sz="3200" spc="-1" strike="noStrike">
                <a:solidFill>
                  <a:srgbClr val="29292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4:25:12Z</dcterms:created>
  <dc:creator>VMS</dc:creator>
  <dc:description/>
  <dc:language>en-US</dc:language>
  <cp:lastModifiedBy>Angie McCall</cp:lastModifiedBy>
  <dcterms:modified xsi:type="dcterms:W3CDTF">2011-09-06T20:36:18Z</dcterms:modified>
  <cp:revision>2</cp:revision>
  <dc:subject/>
  <dc:title>Sept. 3</dc:title>
</cp:coreProperties>
</file>